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0EF-2EB6-4E84-91A0-4CFCF728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880-7CD7-4C0C-B2E7-C38A5B85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976-AE2D-4591-8E1B-6D0E0B24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514-61BF-4099-9726-676B54C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68C-C529-4CA8-BC55-7E136E8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823-9460-4AC0-AD89-F664B8C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D65-7727-44BF-8EBE-A9FBEA6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0D8-90C2-4E16-B110-E2C2E40E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5C2-917D-47C8-815E-538C79FF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70D-DA21-48C6-91E4-6A79C18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A41-7749-49F4-A97D-EE3A954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17F-B1E3-4CF2-9BA3-BDAEFAF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719-DEE6-483E-825C-75507A539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25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274" t="-2169" r="0" b="0"/>
          <a:stretch/>
        </p:blipFill>
        <p:spPr>
          <a:xfrm>
            <a:off x="1322280" y="1187280"/>
            <a:ext cx="63928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-1060" r="0" b="-1060"/>
          <a:stretch/>
        </p:blipFill>
        <p:spPr>
          <a:xfrm>
            <a:off x="1258920" y="2108160"/>
            <a:ext cx="6470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0:21:31Z</dcterms:created>
  <dc:creator>MSO</dc:creator>
  <dc:description/>
  <dc:language>en-US</dc:language>
  <cp:lastModifiedBy>MSO</cp:lastModifiedBy>
  <dcterms:modified xsi:type="dcterms:W3CDTF">2008-12-15T22:37:20Z</dcterms:modified>
  <cp:revision>7</cp:revision>
  <dc:subject/>
  <dc:title>Slide 1</dc:title>
</cp:coreProperties>
</file>