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86E-1B57-46FA-9A5D-7A3E9DDF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D6E-3380-493F-9CEA-60DE9FD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0B4-81CA-4975-9D39-24DC5CD2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4B3-03F2-4600-9ECF-C2006805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68C-184F-4F0D-8B29-39AABD56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392-2325-418B-8A03-2AB598E8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93A-5DFF-498E-B721-0208F0C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D0A-62A2-4B95-9AF4-2C8F0B0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692-C0E2-4659-8DA1-3BDA3F70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71A-03A5-4371-B264-0627A76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402-9720-41B2-A274-4200C2E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A06-5DD9-4193-8F16-859A6819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10C-90D6-43B1-9D5F-A8C6597F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525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-1274" t="-2169" r="0" b="0"/>
          <a:stretch/>
        </p:blipFill>
        <p:spPr>
          <a:xfrm>
            <a:off x="1322280" y="1187280"/>
            <a:ext cx="63928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-1060" r="0" b="-1060"/>
          <a:stretch/>
        </p:blipFill>
        <p:spPr>
          <a:xfrm>
            <a:off x="1258920" y="2108160"/>
            <a:ext cx="64706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0:21:31Z</dcterms:created>
  <dc:creator>MSO</dc:creator>
  <dc:description/>
  <dc:language>en-US</dc:language>
  <cp:lastModifiedBy>MSO</cp:lastModifiedBy>
  <dcterms:modified xsi:type="dcterms:W3CDTF">2008-12-15T22:37:20Z</dcterms:modified>
  <cp:revision>7</cp:revision>
  <dc:subject/>
  <dc:title>Slide 1</dc:title>
</cp:coreProperties>
</file>